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7CDF-B008-4B31-9A02-DD50964E9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3D22-4262-45DC-BE00-203E77FD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4D6B-DAB9-425E-8C44-1385E36FC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946A-6AC6-4CEE-8971-AE5D89C04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F233-2F30-4E35-8D7D-2064CF168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2F08-F96C-4C61-BF09-C79ACEB7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20F8-7895-45DB-B046-793C1B35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9D2B-89D6-427D-B528-27633655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A92D-5156-4450-BD75-EFC2D993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3E51-3867-439E-A748-F5F21E25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688F-BFB6-45DB-A9C8-6F7A9BC4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4E6D-DC03-417B-8EF8-5FE0006B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ACAD-FFC1-4263-9F34-2FD3A8D3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2D76-20DF-4D7B-8148-C8A428D5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6034-5012-4BA2-A8F6-CB800003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8600-782D-48BD-88F3-E19343BA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07BC-CDBC-4AC5-936E-2203AC43B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BD4D-0169-4D78-AAE9-140C507C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0533-6299-43D7-B576-161415AE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6520-7BCA-4208-A92C-5B3D410D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C234-BF96-4BDA-8E0E-F897FCB5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ECCA-C2B3-4D10-9BA4-5918D880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C0C8-253E-4FFA-A9EF-260952C1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F278-3BD6-4234-A864-7C81300C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C6AE-FD44-49DE-BD68-7509E367CFC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4A73-BF53-4C37-BFFA-0884C327FEA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file:///&#1085;&#1072;&#1095;&#1072;&#1083;&#1100;&#1085;&#1072;&#1103;%20&#1089;&#1090;&#1088;&#1072;&#1085;&#1080;&#1094;&#1072;.ppt" TargetMode="External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403280" y="333360"/>
            <a:ext cx="619308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Наш лицей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«Профессиональный лицей №12» в цифрах и фактах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1940 году на базе судостроительного завода города Сталинграда было создано Ремесленное училище №4, в которое направлялись более 600 юношей и девушек для получения профессии токаря, фрезеровщика, слесаря-инструментальщика, слесаря по ремонту оборудов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годы Великой Отечественной войны (в августе 1942 года) было принято решение об эвакуации училища в Сибирь, в наш горо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7 августа 1942 года эшелон с учащимися прибыл в город Барнаул. Разместились в еще недостроенном здании, в котором учреждение находится до сих пор. В это же время РУ №4 получило новый номер – 1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льшинство учащихся в те времена были сиротами, родители которых погибли на фронте. Образование 4-5-6 классов. Возраст от 12 до 17 лет. С 1958 года стали обучать ребят на основе 7-10 класс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59 году к главному корпусу было пристроено здание, в котором разместились слесарные и токарные мастерск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1969 года в училище наряду с профессией учащиеся стали получать общее среднее образование. Появились профессии наладчиков автоматических линий, электриков по ремонту промышленного оборудования, слесарей КИПа, а в 1972 году – рабочих-металлистов. По инициативе директора училища Кривоносова Бориса Григорьевича с 1983 года на базе 10 классов ведется обучение операторов ЭВ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Задача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Решив уравнение 3х(х – 1) = 2х(х + 1) + 24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ы узнаете, сколько различных професси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ожно получи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 Профессиональном лицее №12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2001 году училище получило статус «Профессионального лицея №12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т перечень профессий, которые можно получить в нашем лице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граммист (база 9 классов – 4 года, база 11 классов -              - 2 года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ператор ПК (база 9 классов – 3 года, база 11 классов - 1 год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диомеханик (база 9 классов – 4 года, база 11 классов -           - 2 года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ладчик (база 9 классов – 4 года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лектромонтер (база 9 классов – 3 года, база 11 классов -         - 2 года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аночник широкого профиля (база 9 классов – 3 года, база 11 классов – 1 год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лесарь (база 9 классов – 3 года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окарь-универсал (база 11 классов – 1 год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>
            <a:hlinkClick r:id="rId3"/>
          </p:cNvPr>
          <p:cNvSpPr/>
          <p:nvPr/>
        </p:nvSpPr>
        <p:spPr>
          <a:xfrm>
            <a:off x="2843280" y="1197000"/>
            <a:ext cx="3456000" cy="1009800"/>
          </a:xfrm>
          <a:custGeom>
            <a:avLst/>
            <a:gdLst>
              <a:gd name="textAreaLeft" fmla="*/ 65160 w 3456000"/>
              <a:gd name="textAreaRight" fmla="*/ 3390840 w 3456000"/>
              <a:gd name="textAreaTop" fmla="*/ 65160 h 1009800"/>
              <a:gd name="textAreaBottom" fmla="*/ 944640 h 1009800"/>
            </a:gdLst>
            <a:ahLst/>
            <a:rect l="textAreaLeft" t="textAreaTop" r="textAreaRight" b="textAreaBottom"/>
            <a:pathLst>
              <a:path w="73906" h="21600">
                <a:moveTo>
                  <a:pt x="0" y="0"/>
                </a:moveTo>
                <a:lnTo>
                  <a:pt x="73906" y="0"/>
                </a:lnTo>
                <a:lnTo>
                  <a:pt x="73906" y="21600"/>
                </a:lnTo>
                <a:lnTo>
                  <a:pt x="0" y="21600"/>
                </a:lnTo>
                <a:close/>
              </a:path>
              <a:path fill="lightenLess" w="73906" h="21600">
                <a:moveTo>
                  <a:pt x="0" y="0"/>
                </a:moveTo>
                <a:lnTo>
                  <a:pt x="73906" y="0"/>
                </a:lnTo>
                <a:lnTo>
                  <a:pt x="72506" y="1400"/>
                </a:lnTo>
                <a:lnTo>
                  <a:pt x="1400" y="1400"/>
                </a:lnTo>
                <a:close/>
              </a:path>
              <a:path fill="darken" w="73906" h="21600">
                <a:moveTo>
                  <a:pt x="73906" y="0"/>
                </a:moveTo>
                <a:lnTo>
                  <a:pt x="73906" y="21600"/>
                </a:lnTo>
                <a:lnTo>
                  <a:pt x="72506" y="20200"/>
                </a:lnTo>
                <a:lnTo>
                  <a:pt x="72506" y="1400"/>
                </a:lnTo>
                <a:close/>
              </a:path>
              <a:path fill="darkenLess" w="73906" h="21600">
                <a:moveTo>
                  <a:pt x="739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06" y="20200"/>
                </a:lnTo>
                <a:close/>
              </a:path>
              <a:path fill="lighten" w="739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906" h="21600">
                <a:moveTo>
                  <a:pt x="29947" y="10800"/>
                </a:moveTo>
                <a:lnTo>
                  <a:pt x="43960" y="3794"/>
                </a:lnTo>
                <a:lnTo>
                  <a:pt x="43960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08:43:45Z</dcterms:created>
  <dc:creator>stud</dc:creator>
  <dc:description/>
  <dc:language>en-US</dc:language>
  <cp:lastModifiedBy>User</cp:lastModifiedBy>
  <dcterms:modified xsi:type="dcterms:W3CDTF">2008-12-22T09:47:39Z</dcterms:modified>
  <cp:revision>11</cp:revision>
  <dc:subject/>
  <dc:title>Наш лицей «Профессиональный лицей №12» в цифрах и фактах</dc:title>
</cp:coreProperties>
</file>